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84B-D9BF-4128-BA7E-6AD2139C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2FF-D7B1-4F3F-96D7-F20EC874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384C-28B6-4A59-AAD9-AF98F44D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B3C-3B89-4EF8-B797-362224AE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D740-40BA-40DD-91B6-2502ACBF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953D-DB99-43B7-BA62-76552BB4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50FD-1443-44F0-BEA8-BF9B9363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F267-63F2-459F-A168-B14931B8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852C-8AE3-49C4-A327-BBE49F5B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FEA7-C611-453B-AA45-1CFBC4E9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0296-A0FE-4049-91E6-DF40D779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B29D-71BF-4ABE-9846-DA621831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AAA9-2828-469C-AC3F-08899B2C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2D4B-4122-46E3-9DD4-AE12BE5F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D68B-F600-422C-8CFC-12D70445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3263-65FB-415A-9ED7-E223A938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3FAF-0AE3-43AF-9443-39BB3998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FED6-81C3-4404-882F-865A202F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2072-3CA6-4B1A-BA3A-6D241084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39D-E501-40D4-BB40-E83C7743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EA5-76FD-4472-B7B7-32451270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AEA-2A2E-42B4-9708-7DB1EE57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704F-9F78-4D27-A593-7496F30C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FA7-C756-4C86-92AD-D7F0FCB3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1218-E35D-40B1-8791-02C5CA0604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45ED-6035-41BC-8099-7F4A09D0A9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Instructional Design Basic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Enhanced Learn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structional Design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efinitio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al Design (ID) is a systematic process of planning, developing, managing, and evaluating the instructional process effectively to ensure effective lea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Basic ID concern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udent’s strengths and weaknesses in terms of what they know and how they lea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learning resources are avail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uch time do you have to complete the less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want students to learn in this lesson ( your learning objectives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know if the students learned what they were supposed to lear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Basic ID concern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structure the learning so that the learning objectives are achieved? What strategies will you emplo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student workload: What combination of activities will enable students to master the content and develop the skills targeted by the lesson in the most efficient 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teaching workload: ICT-supported teaching means a change in the organization and management of teaching – there is more work at the “front end” of teaching (design &amp;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ystem approach ID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286000"/>
            <a:ext cx="990720" cy="16765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676520"/>
            <a:ext cx="1219320" cy="8380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1676520"/>
            <a:ext cx="129528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2895480"/>
            <a:ext cx="1066680" cy="10670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2895480"/>
            <a:ext cx="990720" cy="10670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2895480"/>
            <a:ext cx="91440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53080" y="2133720"/>
            <a:ext cx="1067040" cy="2209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2133720"/>
            <a:ext cx="914400" cy="22096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28800" y="4495680"/>
            <a:ext cx="121932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ers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86600" y="4800600"/>
            <a:ext cx="1143000" cy="1143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143000" y="1980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1981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1981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3962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962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400" y="182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296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029200" y="18288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828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3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5840" y="4572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04812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04040" y="5621400"/>
            <a:ext cx="186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Dick and Carey, 19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Objectives of ICT-enhanced learnin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gnitive Skills (Levels of Thin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ical Literacy: Knowledge about what technology is, how it works, what purposes it can serve, and how it can be used efficiently and effectively to achieve specific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http://wwwncrel.org/engauge/skills/techlt.h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Literacy; ability to locate, evaluate, and use information to become independent, life-long learner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mmission on Colleges, Southern Association of Colleges &amp; schoo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Objectives of ICT-enhanced learnin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vity: Making something new, original, and of value personally and cultur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&amp; Decision-making: Ability to structure tasks &amp; activities and make decisions to achieve goals efficiently &amp;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ing &amp; collaboration: Cooperation between two or more individuals to solve problems, create new products, or learn &amp; master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Objectives of ICT-enhanced learnin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Sensitivity: Awareness &amp; respect for differences in customs, values &amp; perspectives among different peoples in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wareness: Recognition &amp; understanding of the inter-connectedness of people &amp; institutions – political, economic, social – all over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http://wwwncrel.org/engauge/skills/techlt.h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ognitive skill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1828800"/>
            <a:ext cx="3200400" cy="3886200"/>
          </a:xfrm>
          <a:prstGeom prst="triangle">
            <a:avLst>
              <a:gd name="adj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72880" y="2438280"/>
            <a:ext cx="79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22400" y="30481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1460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98720" y="34545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4197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22400" y="39877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9528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26400" y="44560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46440" y="51055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5080" y="2362320"/>
            <a:ext cx="24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Order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16960" y="514188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Order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5410080" y="2895480"/>
            <a:ext cx="13716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59:48Z</dcterms:created>
  <dc:creator>frc</dc:creator>
  <dc:description/>
  <dc:language>en-US</dc:language>
  <cp:lastModifiedBy>frc</cp:lastModifiedBy>
  <dcterms:modified xsi:type="dcterms:W3CDTF">2001-12-31T17:32:51Z</dcterms:modified>
  <cp:revision>4</cp:revision>
  <dc:subject/>
  <dc:title>Instructional Design Basics</dc:title>
</cp:coreProperties>
</file>